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CEC-6CE6-4717-9E12-81F56602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800-3199-402B-BA51-466218E4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EB3-8293-40B1-B35E-9DE0F160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920-4C1E-4D67-904A-F86B58B6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AC15-456D-435F-B9B2-C0609B19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72AE-29E3-4E84-8EA0-D4F16B62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FA41-536D-40E8-9399-454D878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B63D-A3E3-4BA1-B801-9113E091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B514-BE79-4371-8C34-C4DC7D8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8F89-211D-410D-A1A5-811675C0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1E7E-5E82-4E23-A56B-A84A2A36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A0A-EEFF-4F85-BC00-5BB89AA7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6285-F203-4B44-B36C-66366EFC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DA1D-B6ED-4A45-B547-C48252B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1128-3C45-4564-A41B-2C62E7A4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B9EE-5336-4DDA-A5A6-9E554A55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DB46-0840-4FB0-8AEA-3EA19BBD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53E-5B1F-490E-B4DB-16DA51B9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CDE-4161-44C8-8D34-D6B8DDBA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6ED-0620-4F8A-8AE6-8EE9CA7B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485-0A09-44FF-B465-011BACD8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6D7-66EF-4F8F-85AB-57D6E46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5F1-745A-4EED-9902-86E89A3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453-13C3-4AAC-931D-E489CCF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B7E3-075C-4DC9-BF8A-7AD352BA90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1767-5360-431B-BE28-F460858BC19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onsumer Behaviou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R 1100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Behavio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finit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actions that a person tak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 purchasing an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ducts and servi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the mental an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cial processes th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ce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follow these actio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Consumer Purchase Decision Process (CPD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ceive a need: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roblem Recogni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ek information on how to fill the need: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Information Search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 (Internal sources &amp; External Sourc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sessing the information: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lternative Evalua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  (Form an Evoked Set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and Alternative: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urchase Deci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Purchase feeling: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ost-purchase Behaviou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(Cognitive Dissonanc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vel of Involvement in the CPD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ertain buying situations require more consideration than others.  There are three types of problem solving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Routine Problem Solv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Used to buy common goods that have little risk.  (e.g. buying your usual type of toothpaste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Limited Problem Solv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Used to buy more complex, less often purchased items that may offer more risk. (e.g. buying car mat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xtended Problem Solv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Used to buy complex items with great risk. (e.g. buying a new ca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fluences on the CPD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ituational Influe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sychological Influe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inly internal, your mindset affects the CPD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ciocultural Influe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085760" indent="-217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fluence that come from society and our social surround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rketing Mix Influen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085760" indent="-217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tuational Influ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ituational Influences includ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urchase Task - Amount of effort require to buy a produc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ocial Surroundings - The people around you when you bu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hysical Surrounding - The building/place you are in to bu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emporal Effects - Time related effect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ntecedent State - Mood of the buy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sychological Influ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otiv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ee Maslow’s Hierarchy of nee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ersonali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ercep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Note the perception process - Selective perception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Note the importance of risk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Learn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Behavioural Learning - learned through experienc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Cognitive Learning - learned through mental processes such as thinking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Brand Loyalty -  learned through experience or other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Values, Beliefs &amp; Attitu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Attitude formation &amp; changing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Lifesty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Mode of living - Self defined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ciocultural Influ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Personal Influ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Opinion leaders affect your decision as does word-of-mouth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Reference Group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You look to these people as a measure of your relative stat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Family Influ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Social Cla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The division of society that you feel you fall int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ulture and Subcult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Verdana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keting Mix Influ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great deal of influence on the CPDP by th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roduct itsel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Price of the produc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way the product is Promo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Place where the product is sold or how it is deliver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Paul Tilley</cp:lastModifiedBy>
  <dcterms:modified xsi:type="dcterms:W3CDTF">2003-10-17T12:42:01Z</dcterms:modified>
  <cp:revision>7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